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F17A-8997-40C8-90E5-0E1B327BC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B5C2-8F0C-43B4-822F-F4418B06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EEF2-7FEF-4226-ADC2-0C7AE2D0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1B31-C338-4B88-82A0-F80909CD3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E503-5D62-4557-A786-58300AD3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B7AF-8554-4D9B-A812-CAC8C0C5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BC5F-2C7A-4C99-8FB3-8FCD580A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E6A8-8D57-4F4C-85BE-C8EE8593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4006-8E6F-49BB-B27C-0FBE500D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4F3C-F2D3-4822-8643-F1AB1EF2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33F4-0BEE-4377-B551-ADEE7684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9EAB-E3C0-429D-9E17-66BBB459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4037-FD5F-4DBD-B286-1DDF26C6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2E6B-9998-42B4-83D1-A8630D58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194C-1C3A-4F8F-94F8-B7026A8A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D886-8B27-4BCD-BB26-BBB2F330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E88F-B32A-41D3-B126-F14423BA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9787-A7E1-49AF-81CE-5CAA42C6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FD6C-A315-4E8C-8D40-78B38C5A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DEAF-6E1C-4850-990B-31A1301C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D586-A281-411F-AB10-FB2FC10B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3E9B-F309-4FFD-8559-4E9F0CB2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B886-2027-4AAA-BF7C-BA124060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2F9B-C620-4ECE-A385-3E06EA31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B44B-3691-4294-BB15-EDBE4DF1170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9E85-6F11-48B6-AD34-83D83A3AE14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Rar$DI04.188/&#1095;&#1072;&#1081;&#1082;%20&#1057;%2024-.aiff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55760" y="0"/>
            <a:ext cx="463392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60280" y="304920"/>
            <a:ext cx="172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ори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устоди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8600" y="362520"/>
            <a:ext cx="8534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усские народные песни сочиняет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Маленькие шуточные куплети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зываются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Кто такой П.И.Чайковский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нового вы о нём узнали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Назовите автора и литературное произведение, на основе которого П.И.Чайковский создал одну из своих опер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 Весёлые детские развлеч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 время ярмарочных гуляний - это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6. Кто доволен своей работой на урок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5257800"/>
            <a:ext cx="822960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 П А С И Б О   З А   У Р О К 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305920" cy="4953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7200" y="472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1818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брался честной нар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площади центральн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купить, товар продат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сни русские игра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реди них и шум и га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русели расписны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гармонике игра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рни молоды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Ярмарка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Гулянье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ЯРМАРОЧНОЕ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ГУЛЯНЬЕ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Цель нашего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1574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ть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15748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15748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1574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учить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157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157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1574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аствовать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ЛЕКСАНДР СЕРГЕЕВИЧ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УШК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7622" t="2093" r="4969" b="0"/>
          <a:stretch/>
        </p:blipFill>
        <p:spPr>
          <a:xfrm>
            <a:off x="2819520" y="1600200"/>
            <a:ext cx="3938400" cy="4876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8954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19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14568" t="4447" r="11339" b="1754"/>
          <a:stretch/>
        </p:blipFill>
        <p:spPr>
          <a:xfrm>
            <a:off x="685800" y="380880"/>
            <a:ext cx="2987640" cy="3733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4192560"/>
            <a:ext cx="472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ЛЕКСАНДР СЕРГЕЕВИ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УШК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Э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ОМАН «ЕВГЕНИЙ ОНЕГИН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20200" y="4148280"/>
            <a:ext cx="430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ЁТР ИЛЬИ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АЙКОВ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МПОЗИТ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ПЕРА «ЕВГЕНИЙ ОНЕГИН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304920"/>
            <a:ext cx="3368520" cy="3749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85800" y="3809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1864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«Уж как по мосту, мосточку» </a:t>
            </a:r>
            <a:br>
              <a:rPr sz="44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РУССКАЯ НАРОДНА ПЕСНЯ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34960" indent="32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ж как по мосту, мосточк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43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калиновым досочка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43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ай-ну, вай-ну, вай-ну, вай-ну,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43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калиновым досочка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43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434960" indent="32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ут и шёл прошёл детин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43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овно ягода-мали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43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ай-ну, вай-ну, вай-ну, вай-н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43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овно ягода-мали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43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434960" indent="32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плече несёт дубинк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43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 полой несёт волын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43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ай-ну, вай-ну, вай-ну, вай-н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43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 полой несёт волын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43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43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4-01-09T07:17:23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