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E57-8F87-4EFA-8B6C-94EBBBB6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546-AC8A-4E19-85CD-E7DF8224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01A-AE38-4E76-A6A7-8EF47CC7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804-54E5-46B7-B8F1-D2962ED2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EA94-983B-4D8B-A82A-935CBF89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840-D114-4554-BB65-862A9ECF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AAC4-15DB-46B9-8AA2-CA41180A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23C-FE9A-4E1D-A466-7AF69061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C0C-6A24-45C1-88C2-72BAA52A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5BE9-A4C0-44AD-9D8D-62AEC60F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7DB-E9CF-4513-BDD0-B37D0DBD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D1FB-84F3-4507-972A-C7A94164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8C7A-A21D-45FC-873B-FCEBB7280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5600" y="3186000"/>
          <a:ext cx="215280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5600" y="3186000"/>
                    <a:ext cx="21528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9:52:22Z</dcterms:created>
  <dc:creator>FoM</dc:creator>
  <dc:description/>
  <dc:language>en-US</dc:language>
  <cp:lastModifiedBy>FoM</cp:lastModifiedBy>
  <dcterms:modified xsi:type="dcterms:W3CDTF">2008-12-15T20:00:09Z</dcterms:modified>
  <cp:revision>12</cp:revision>
  <dc:subject/>
  <dc:title>Слайд 1</dc:title>
</cp:coreProperties>
</file>