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2.jpeg" ContentType="image/jpeg"/>
  <Override PartName="/ppt/media/image27.jpeg" ContentType="image/jpe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6C6-20B8-4D89-9670-1CC6B517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05D-AF7C-4F89-8CBD-EB960870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B35-F651-4ACA-A13A-58CD3B0B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3A4-E061-4CD0-8352-EE4C0E18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B11F-16E2-4116-AD38-2FE6591E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31EE-1F30-4C2A-873E-EAE6926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2674-807E-4392-BDD7-B4423FB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0A4A-78D1-4D1C-900B-4B805B8C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03D2-89E0-4C00-9C3D-190721C8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ED3-EF87-4329-AC90-C45279C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BB0F-C2AA-49A4-928E-A8E0423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1ED-582A-4616-8694-C8DD4781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DA05-08D7-4473-BCD0-C0F4464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A4BD-E00A-49E3-8A4F-E7E652D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B45-8320-4954-946A-9239A6E0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18A-E13C-4E21-9DED-1FD4B89E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CEB8-C8A7-480C-8602-9A956950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1693-6D08-41A0-9A78-A44B9E63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97E0-E357-4854-8580-CD6AD41E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D918-8A08-460E-8F15-4DEC167F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8FC6-80A2-4DA6-999C-3642C57B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651F-B5F6-4405-9810-6D153A0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129-2721-48ED-AC98-E218C14B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1DAF-32C7-45F9-A4EC-2553DA4A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88B7-A872-47BF-B513-0BAAABF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E5E2-4EC7-4588-8FDE-A211277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26BD-8258-4FDD-984F-1E60B18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A888-6F80-41CD-8337-E90F792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06AE-3A94-48C5-AD1C-3DFB0C3A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F302-E083-44B8-92F4-CA52B116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64D3-A955-4B37-B74E-26C71CE4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9E1A3-D2C2-48CB-8677-F88FB569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81F9-39F2-4741-9302-940F38F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773-1196-4DAF-A888-2639C7C1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D4D3-6826-4F98-B304-A3D65FCA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F6E5-5D52-42FA-8A2E-C88FD2A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FB8A-C020-4ABC-B579-5BE4EC8C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A63B-0469-4FF2-80E2-0688314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4BAF-6EFE-4AAD-A095-8DFB49D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8954-0A1A-481A-B841-26685F1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D0078-18C6-4420-B27C-447EDBB1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3AC6-E12F-4751-8BD8-1D722E04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D9E43-1D6C-4732-80AF-296F2216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962B-85E2-44EF-8158-253D6AA2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121-6E6D-4DBC-80CC-A672CE3A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1E12-B9CF-47C4-9F34-3975935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24FB-8F16-4FB9-93FF-1BCACC47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D9CC9-1B1F-4358-B6F3-CA24FEC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4AC4-6A2B-4F1A-AEFF-1CDF5B9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75BF9-2369-4210-9C3A-2816364E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A439-A8D6-429A-A1A1-5ED4101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FD7B-7617-4661-B46D-9AEF639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C776-D0B2-4952-9840-0AA94CB8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BD944-3AC8-4E0F-B351-AEAA3EF1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BA0A-F9DF-4F29-84E6-971CED82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388-F0AE-46DE-A64A-53AF0E2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AA73-1A96-47E0-B7D4-D5ECA706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7CBCC-311F-46AA-9E3D-92827BB5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0D1DF-D566-4FC9-8857-12A9F66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2FAE-D2D2-4BEE-A31F-1E69C1B4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97010-297C-4B14-B178-ADC1F712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D84F-F96C-4C2E-A3DD-D7A907FC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55D7-B6A6-44FF-AF26-CA5FD33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CF76-B484-46D5-8CB8-D755F76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652C-6399-456E-90DD-723582B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FA9E-F273-4181-85E1-8FE436F7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B48-367A-4A10-90A1-2B8F2D0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F4D0-916F-4CB9-BE00-5EA0869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0993-3DE0-432F-A1C8-6B725646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1069-EAE9-4EED-9212-8B49F469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34809-E733-40E1-8EE0-5DE12267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A9D8-1D79-4424-AA1A-B62DD321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9E75-00F3-4F09-8F56-36FCE81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27B2-3453-4225-B86F-6E9BB499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F11A-58A3-4B1E-9B6C-471AF1F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61C9-8E1A-410A-BEC5-1D4B104C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5411-C890-4C89-8B11-D0DD885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EC3-4776-4743-AB53-59C6DDA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6AB8-A9B7-4BF3-AB14-3C95320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2678A-047F-473E-90F3-699D65A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C797F-44C9-4737-A4F9-42F724F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A9C0-3421-4792-BEB9-DA1CE41E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D443-14FA-4212-A34B-0B891001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64C-5D74-4F17-9199-5DAE615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8DDB-5112-43AF-970F-8838202B036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78EB-C083-42B6-B832-20A95EC26CA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65ce2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63d81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65ce2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5ce2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77B6-3EB7-46B5-BE02-95A5056B119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CBD7-0675-4F1C-B243-B97833F37A1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5ce2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F8CE-FBFD-4D2F-9687-DE9F099D957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13A-84C5-42CA-A01B-A2F2B678456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ea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3840" y="1217520"/>
              <a:ext cx="61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87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3840" y="1282320"/>
              <a:ext cx="61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6120" y="1370160"/>
              <a:ext cx="619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87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6120" y="1434960"/>
              <a:ext cx="619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8720" y="1473120"/>
              <a:ext cx="61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87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8720" y="1537920"/>
              <a:ext cx="61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d6ec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d6e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E7C-C215-40C0-B8E9-4E0CB82181B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7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5"/>
          <p:cNvSpPr/>
          <p:nvPr/>
        </p:nvSpPr>
        <p:spPr>
          <a:xfrm>
            <a:off x="500040" y="836640"/>
            <a:ext cx="61214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Сумма корней               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приведенного квадратного уравнения      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равна второму коэффициенту </a:t>
            </a:r>
            <a:r>
              <a:rPr b="0" i="1" lang="ru-RU" sz="1800" spc="-1" strike="noStrike">
                <a:solidFill>
                  <a:srgbClr val="00192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взятому с противоположным знаком,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а произведение корней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равно свободному члену </a:t>
            </a:r>
            <a:r>
              <a:rPr b="0" i="1" lang="ru-RU" sz="1800" spc="-1" strike="noStrike">
                <a:solidFill>
                  <a:srgbClr val="00192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369" name="Рисунок 10" descr=""/>
          <p:cNvPicPr/>
          <p:nvPr/>
        </p:nvPicPr>
        <p:blipFill>
          <a:blip r:embed="rId1"/>
          <a:stretch/>
        </p:blipFill>
        <p:spPr>
          <a:xfrm>
            <a:off x="357120" y="6480"/>
            <a:ext cx="774720" cy="91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0" name="Объект 12"/>
              <p:cNvSpPr txBox="1"/>
              <p:nvPr/>
            </p:nvSpPr>
            <p:spPr>
              <a:xfrm>
                <a:off x="4892760" y="1052640"/>
                <a:ext cx="1590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Объект 13"/>
              <p:cNvSpPr txBox="1"/>
              <p:nvPr/>
            </p:nvSpPr>
            <p:spPr>
              <a:xfrm>
                <a:off x="2228760" y="836640"/>
                <a:ext cx="798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2" name="Горизонтальный свиток 15"/>
          <p:cNvSpPr/>
          <p:nvPr/>
        </p:nvSpPr>
        <p:spPr>
          <a:xfrm>
            <a:off x="2397240" y="176040"/>
            <a:ext cx="4248000" cy="76860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орема Виета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16"/>
              <p:cNvSpPr txBox="1"/>
              <p:nvPr/>
            </p:nvSpPr>
            <p:spPr>
              <a:xfrm>
                <a:off x="3303720" y="1916280"/>
                <a:ext cx="5158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74" name="Рисунок 22" descr=""/>
          <p:cNvPicPr/>
          <p:nvPr/>
        </p:nvPicPr>
        <p:blipFill>
          <a:blip r:embed="rId2"/>
          <a:stretch/>
        </p:blipFill>
        <p:spPr>
          <a:xfrm>
            <a:off x="6676920" y="920880"/>
            <a:ext cx="2390760" cy="16700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3"/>
          <p:cNvSpPr/>
          <p:nvPr/>
        </p:nvSpPr>
        <p:spPr>
          <a:xfrm>
            <a:off x="694836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ecff"/>
                </a:solidFill>
                <a:latin typeface="Arial"/>
              </a:rPr>
              <a:t>доказательство</a:t>
            </a:r>
            <a:endParaRPr b="0" lang="en-US" sz="16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376" name="Схема 29" descr=""/>
          <p:cNvPicPr/>
          <p:nvPr/>
        </p:nvPicPr>
        <p:blipFill>
          <a:blip r:embed="rId3"/>
          <a:stretch/>
        </p:blipFill>
        <p:spPr>
          <a:xfrm>
            <a:off x="493560" y="2852640"/>
            <a:ext cx="7364520" cy="3670560"/>
          </a:xfrm>
          <a:prstGeom prst="rect">
            <a:avLst/>
          </a:prstGeom>
          <a:ln w="0">
            <a:noFill/>
          </a:ln>
        </p:spPr>
      </p:pic>
      <p:sp>
        <p:nvSpPr>
          <p:cNvPr id="377" name="Овал 10">
            <a:hlinkClick r:id="rId4" action="ppaction://hlinksldjump"/>
          </p:cNvPr>
          <p:cNvSpPr/>
          <p:nvPr/>
        </p:nvSpPr>
        <p:spPr>
          <a:xfrm>
            <a:off x="7236000" y="3068640"/>
            <a:ext cx="428400" cy="428760"/>
          </a:xfrm>
          <a:prstGeom prst="ellipse">
            <a:avLst/>
          </a:prstGeom>
          <a:solidFill>
            <a:srgbClr val="ffe39d"/>
          </a:solidFill>
          <a:ln w="648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5e01"/>
                </a:solidFill>
                <a:latin typeface="Wingdings 2"/>
                <a:ea typeface="Wingdings 2"/>
              </a:rPr>
              <a:t>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8" name="Овал 11">
            <a:hlinkClick r:id="rId5" action="ppaction://hlinksldjump"/>
          </p:cNvPr>
          <p:cNvSpPr/>
          <p:nvPr/>
        </p:nvSpPr>
        <p:spPr>
          <a:xfrm>
            <a:off x="7236000" y="3649680"/>
            <a:ext cx="428400" cy="428760"/>
          </a:xfrm>
          <a:prstGeom prst="ellipse">
            <a:avLst/>
          </a:prstGeom>
          <a:solidFill>
            <a:srgbClr val="ffe39d"/>
          </a:solidFill>
          <a:ln w="648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5e01"/>
                </a:solidFill>
                <a:latin typeface="Wingdings 2"/>
                <a:ea typeface="Wingdings 2"/>
              </a:rPr>
              <a:t>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9" name="Овал 12">
            <a:hlinkClick r:id="rId6" action="ppaction://hlinksldjump"/>
          </p:cNvPr>
          <p:cNvSpPr/>
          <p:nvPr/>
        </p:nvSpPr>
        <p:spPr>
          <a:xfrm>
            <a:off x="7236000" y="4230720"/>
            <a:ext cx="428400" cy="428760"/>
          </a:xfrm>
          <a:prstGeom prst="ellipse">
            <a:avLst/>
          </a:prstGeom>
          <a:solidFill>
            <a:srgbClr val="ffe39d"/>
          </a:solidFill>
          <a:ln w="648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5e01"/>
                </a:solidFill>
                <a:latin typeface="Wingdings 2"/>
                <a:ea typeface="Wingdings 2"/>
              </a:rPr>
              <a:t>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0" name="Овал 13">
            <a:hlinkClick r:id="rId7" action="ppaction://hlinksldjump"/>
          </p:cNvPr>
          <p:cNvSpPr/>
          <p:nvPr/>
        </p:nvSpPr>
        <p:spPr>
          <a:xfrm>
            <a:off x="7236000" y="4811760"/>
            <a:ext cx="428400" cy="428400"/>
          </a:xfrm>
          <a:prstGeom prst="ellipse">
            <a:avLst/>
          </a:prstGeom>
          <a:solidFill>
            <a:srgbClr val="ffe39d"/>
          </a:solidFill>
          <a:ln w="648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5e01"/>
                </a:solidFill>
                <a:latin typeface="Wingdings 2"/>
                <a:ea typeface="Wingdings 2"/>
              </a:rPr>
              <a:t>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1" name="Овал 14">
            <a:hlinkClick r:id="rId8" action="ppaction://hlinksldjump"/>
          </p:cNvPr>
          <p:cNvSpPr/>
          <p:nvPr/>
        </p:nvSpPr>
        <p:spPr>
          <a:xfrm>
            <a:off x="7236000" y="5373720"/>
            <a:ext cx="428400" cy="428760"/>
          </a:xfrm>
          <a:prstGeom prst="ellipse">
            <a:avLst/>
          </a:prstGeom>
          <a:solidFill>
            <a:srgbClr val="ffe39d"/>
          </a:solidFill>
          <a:ln w="648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5e01"/>
                </a:solidFill>
                <a:latin typeface="Wingdings 2"/>
                <a:ea typeface="Wingdings 2"/>
              </a:rPr>
              <a:t>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2" name="Овал 16">
            <a:hlinkClick r:id="rId9" action="ppaction://hlinksldjump"/>
          </p:cNvPr>
          <p:cNvSpPr/>
          <p:nvPr/>
        </p:nvSpPr>
        <p:spPr>
          <a:xfrm>
            <a:off x="7236000" y="6021360"/>
            <a:ext cx="428400" cy="428760"/>
          </a:xfrm>
          <a:prstGeom prst="ellipse">
            <a:avLst/>
          </a:prstGeom>
          <a:solidFill>
            <a:srgbClr val="ffe39d"/>
          </a:solidFill>
          <a:ln w="648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5e01"/>
                </a:solidFill>
                <a:latin typeface="Wingdings 2"/>
                <a:ea typeface="Wingdings 2"/>
              </a:rPr>
              <a:t>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1" descr=""/>
          <p:cNvPicPr/>
          <p:nvPr/>
        </p:nvPicPr>
        <p:blipFill>
          <a:blip r:embed="rId1"/>
          <a:stretch/>
        </p:blipFill>
        <p:spPr>
          <a:xfrm>
            <a:off x="139680" y="189000"/>
            <a:ext cx="2303640" cy="28083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2"/>
          <p:cNvSpPr/>
          <p:nvPr/>
        </p:nvSpPr>
        <p:spPr>
          <a:xfrm>
            <a:off x="3032280" y="189000"/>
            <a:ext cx="5564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имер 3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57" name="Овал 3"/>
          <p:cNvSpPr/>
          <p:nvPr/>
        </p:nvSpPr>
        <p:spPr>
          <a:xfrm>
            <a:off x="3146400" y="5445000"/>
            <a:ext cx="3384720" cy="505080"/>
          </a:xfrm>
          <a:prstGeom prst="ellipse">
            <a:avLst/>
          </a:prstGeom>
          <a:solidFill>
            <a:srgbClr val="ea157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тветы</a:t>
            </a:r>
            <a:endParaRPr b="0" lang="en-US" sz="32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58" name="Горизонтальный свиток 4"/>
          <p:cNvSpPr/>
          <p:nvPr/>
        </p:nvSpPr>
        <p:spPr>
          <a:xfrm>
            <a:off x="1738440" y="3724200"/>
            <a:ext cx="6199200" cy="10731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: Составьте уравнение, корнями которого являются числа 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2330280" y="712800"/>
            <a:ext cx="6813720" cy="3176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"/>
          <p:cNvPicPr/>
          <p:nvPr/>
        </p:nvPicPr>
        <p:blipFill>
          <a:blip r:embed="rId3"/>
          <a:stretch/>
        </p:blipFill>
        <p:spPr>
          <a:xfrm>
            <a:off x="2428920" y="4653000"/>
            <a:ext cx="4790880" cy="571320"/>
          </a:xfrm>
          <a:prstGeom prst="rect">
            <a:avLst/>
          </a:prstGeom>
          <a:ln w="0">
            <a:noFill/>
          </a:ln>
        </p:spPr>
      </p:pic>
      <p:sp>
        <p:nvSpPr>
          <p:cNvPr id="461" name="Управляющая кнопка: в начало 6"/>
          <p:cNvSpPr/>
          <p:nvPr/>
        </p:nvSpPr>
        <p:spPr>
          <a:xfrm>
            <a:off x="8317080" y="6345360"/>
            <a:ext cx="431640" cy="32364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62" name="TextBox 7" descr=""/>
          <p:cNvPicPr/>
          <p:nvPr/>
        </p:nvPicPr>
        <p:blipFill>
          <a:blip r:embed="rId4"/>
          <a:stretch/>
        </p:blipFill>
        <p:spPr>
          <a:xfrm>
            <a:off x="1712880" y="6095880"/>
            <a:ext cx="61992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611280" y="276120"/>
            <a:ext cx="8137440" cy="569916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1" descr=""/>
          <p:cNvPicPr/>
          <p:nvPr/>
        </p:nvPicPr>
        <p:blipFill>
          <a:blip r:embed="rId2"/>
          <a:stretch/>
        </p:blipFill>
        <p:spPr>
          <a:xfrm>
            <a:off x="6084720" y="620640"/>
            <a:ext cx="2130480" cy="23335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3"/>
          <p:cNvSpPr/>
          <p:nvPr/>
        </p:nvSpPr>
        <p:spPr>
          <a:xfrm>
            <a:off x="2411280" y="6195960"/>
            <a:ext cx="4321440" cy="5814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2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3"/>
          <a:stretch/>
        </p:blipFill>
        <p:spPr>
          <a:xfrm>
            <a:off x="4505400" y="3348000"/>
            <a:ext cx="133200" cy="16200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5"/>
          <p:cNvSpPr/>
          <p:nvPr/>
        </p:nvSpPr>
        <p:spPr>
          <a:xfrm>
            <a:off x="611280" y="276120"/>
            <a:ext cx="8137440" cy="569916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68" name="Рисунок 4" descr=""/>
          <p:cNvPicPr/>
          <p:nvPr/>
        </p:nvPicPr>
        <p:blipFill>
          <a:blip r:embed="rId4"/>
          <a:stretch/>
        </p:blipFill>
        <p:spPr>
          <a:xfrm>
            <a:off x="835200" y="2976480"/>
            <a:ext cx="7689600" cy="1244520"/>
          </a:xfrm>
          <a:prstGeom prst="rect">
            <a:avLst/>
          </a:prstGeom>
          <a:ln w="0">
            <a:noFill/>
          </a:ln>
        </p:spPr>
      </p:pic>
      <p:sp>
        <p:nvSpPr>
          <p:cNvPr id="46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24800" y="6381720"/>
            <a:ext cx="439920" cy="399960"/>
          </a:xfrm>
          <a:custGeom>
            <a:avLst/>
            <a:gdLst>
              <a:gd name="textAreaLeft" fmla="*/ 25920 w 439920"/>
              <a:gd name="textAreaRight" fmla="*/ 414000 w 4399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3756" h="21600">
                <a:moveTo>
                  <a:pt x="0" y="0"/>
                </a:moveTo>
                <a:lnTo>
                  <a:pt x="23756" y="0"/>
                </a:lnTo>
                <a:lnTo>
                  <a:pt x="23756" y="21600"/>
                </a:lnTo>
                <a:lnTo>
                  <a:pt x="0" y="21600"/>
                </a:lnTo>
                <a:close/>
              </a:path>
              <a:path fill="lightenLess" w="23756" h="21600">
                <a:moveTo>
                  <a:pt x="0" y="0"/>
                </a:moveTo>
                <a:lnTo>
                  <a:pt x="23756" y="0"/>
                </a:lnTo>
                <a:lnTo>
                  <a:pt x="22356" y="1400"/>
                </a:lnTo>
                <a:lnTo>
                  <a:pt x="1400" y="1400"/>
                </a:lnTo>
                <a:close/>
              </a:path>
              <a:path fill="darken" w="23756" h="21600">
                <a:moveTo>
                  <a:pt x="23756" y="0"/>
                </a:moveTo>
                <a:lnTo>
                  <a:pt x="23756" y="21600"/>
                </a:lnTo>
                <a:lnTo>
                  <a:pt x="22356" y="20200"/>
                </a:lnTo>
                <a:lnTo>
                  <a:pt x="22356" y="1400"/>
                </a:lnTo>
                <a:close/>
              </a:path>
              <a:path fill="darkenLess" w="23756" h="21600">
                <a:moveTo>
                  <a:pt x="23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6" y="20200"/>
                </a:lnTo>
                <a:close/>
              </a:path>
              <a:path fill="lighten" w="23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6" h="21600">
                <a:moveTo>
                  <a:pt x="11878" y="3837"/>
                </a:moveTo>
                <a:lnTo>
                  <a:pt x="14454" y="6448"/>
                </a:lnTo>
                <a:lnTo>
                  <a:pt x="14454" y="4707"/>
                </a:lnTo>
                <a:lnTo>
                  <a:pt x="16230" y="4707"/>
                </a:lnTo>
                <a:lnTo>
                  <a:pt x="16230" y="8224"/>
                </a:lnTo>
                <a:lnTo>
                  <a:pt x="18841" y="10800"/>
                </a:lnTo>
                <a:lnTo>
                  <a:pt x="17187" y="10800"/>
                </a:lnTo>
                <a:lnTo>
                  <a:pt x="17187" y="17989"/>
                </a:lnTo>
                <a:lnTo>
                  <a:pt x="6569" y="17989"/>
                </a:lnTo>
                <a:lnTo>
                  <a:pt x="6569" y="10800"/>
                </a:lnTo>
                <a:lnTo>
                  <a:pt x="4915" y="10800"/>
                </a:lnTo>
                <a:close/>
              </a:path>
              <a:path fill="darkenLess" w="23756" h="21600">
                <a:moveTo>
                  <a:pt x="14454" y="6448"/>
                </a:moveTo>
                <a:lnTo>
                  <a:pt x="14454" y="4707"/>
                </a:lnTo>
                <a:lnTo>
                  <a:pt x="16230" y="4707"/>
                </a:lnTo>
                <a:lnTo>
                  <a:pt x="16230" y="8224"/>
                </a:lnTo>
                <a:close/>
              </a:path>
              <a:path fill="darkenLess" w="23756" h="21600">
                <a:moveTo>
                  <a:pt x="10955" y="14299"/>
                </a:moveTo>
                <a:lnTo>
                  <a:pt x="12801" y="14299"/>
                </a:lnTo>
                <a:lnTo>
                  <a:pt x="12801" y="17989"/>
                </a:lnTo>
                <a:lnTo>
                  <a:pt x="17187" y="17989"/>
                </a:lnTo>
                <a:lnTo>
                  <a:pt x="17187" y="10800"/>
                </a:lnTo>
                <a:lnTo>
                  <a:pt x="6569" y="10800"/>
                </a:lnTo>
                <a:lnTo>
                  <a:pt x="6569" y="17989"/>
                </a:lnTo>
                <a:lnTo>
                  <a:pt x="10955" y="17989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"/>
          <p:cNvSpPr/>
          <p:nvPr/>
        </p:nvSpPr>
        <p:spPr>
          <a:xfrm>
            <a:off x="1073160" y="3068640"/>
            <a:ext cx="698508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Франсуа Виет – французский математик 16 века. Он был адвокатом, а позднее, - советником французских коро­лей. И хотя математика была лишь его увлечением, или как говорят хобби, благодаря упорному труду, он добился в ней больших результатов.  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Ф. Виета называют «от­цом буквенной современной алгебры». Виет сделал множество открытий, сам он больше всего дорожил установлением зависимости между корнями и коэффициентами   квадратного уравнения, которое называется теоремой Виета.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71" name="Управляющая кнопка: в начало 1">
            <a:hlinkClick r:id="" action="ppaction://hlinkshowjump?jump=firstslide"/>
          </p:cNvPr>
          <p:cNvSpPr/>
          <p:nvPr/>
        </p:nvSpPr>
        <p:spPr>
          <a:xfrm>
            <a:off x="8532720" y="6453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9978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8132" y="3794"/>
                </a:lnTo>
                <a:lnTo>
                  <a:pt x="8132" y="17806"/>
                </a:lnTo>
                <a:lnTo>
                  <a:pt x="6470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72" name="Picture 4" descr="re_viet_fransua"/>
          <p:cNvPicPr/>
          <p:nvPr/>
        </p:nvPicPr>
        <p:blipFill>
          <a:blip r:embed="rId1"/>
          <a:stretch/>
        </p:blipFill>
        <p:spPr>
          <a:xfrm>
            <a:off x="3619440" y="333360"/>
            <a:ext cx="17146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1835280" y="476280"/>
            <a:ext cx="5292720" cy="56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да Теореме Виета</a:t>
            </a:r>
            <a:endParaRPr b="0" lang="en-US" sz="24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х</a:t>
            </a:r>
            <a:r>
              <a:rPr b="1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²</a:t>
            </a: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+рх+</a:t>
            </a:r>
            <a:r>
              <a:rPr b="1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q</a:t>
            </a: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=0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Теорему Виета тебе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Я запомнить легко помогу: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умма корней минус р,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оизведение </a:t>
            </a:r>
            <a:r>
              <a:rPr b="0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q</a:t>
            </a: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ах</a:t>
            </a:r>
            <a:r>
              <a:rPr b="1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²</a:t>
            </a: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b</a:t>
            </a: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х+с=0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оэтом по праву должна быть воспета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 свойствах корней теорема Виета.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Что лучше скажи постоянства такого-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Умножишь ты корни и дробь уж готова: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 числителе с, в знаменателе </a:t>
            </a:r>
            <a:r>
              <a:rPr b="0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И сумма корней тоже дроби равна,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Хоть с минусом дробь та, что за беда: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 числителе</a:t>
            </a:r>
            <a:r>
              <a:rPr b="0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b</a:t>
            </a: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, в знаменателе </a:t>
            </a:r>
            <a:r>
              <a:rPr b="0" lang="en-US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74" name="Рисунок 1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41360" cy="158436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3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1341360" cy="1584360"/>
          </a:xfrm>
          <a:prstGeom prst="rect">
            <a:avLst/>
          </a:prstGeom>
          <a:ln w="0">
            <a:noFill/>
          </a:ln>
        </p:spPr>
      </p:pic>
      <p:sp>
        <p:nvSpPr>
          <p:cNvPr id="476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8459640" y="6200640"/>
            <a:ext cx="433440" cy="397080"/>
          </a:xfrm>
          <a:custGeom>
            <a:avLst/>
            <a:gdLst>
              <a:gd name="textAreaLeft" fmla="*/ 25560 w 433440"/>
              <a:gd name="textAreaRight" fmla="*/ 407880 w 433440"/>
              <a:gd name="textAreaTop" fmla="*/ 25560 h 397080"/>
              <a:gd name="textAreaBottom" fmla="*/ 371520 h 3970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3837"/>
                </a:moveTo>
                <a:lnTo>
                  <a:pt x="14364" y="6448"/>
                </a:lnTo>
                <a:lnTo>
                  <a:pt x="14364" y="4707"/>
                </a:lnTo>
                <a:lnTo>
                  <a:pt x="16140" y="4707"/>
                </a:lnTo>
                <a:lnTo>
                  <a:pt x="16140" y="8224"/>
                </a:lnTo>
                <a:lnTo>
                  <a:pt x="18751" y="10800"/>
                </a:lnTo>
                <a:lnTo>
                  <a:pt x="17097" y="10800"/>
                </a:lnTo>
                <a:lnTo>
                  <a:pt x="17097" y="17989"/>
                </a:lnTo>
                <a:lnTo>
                  <a:pt x="6479" y="17989"/>
                </a:lnTo>
                <a:lnTo>
                  <a:pt x="6479" y="10800"/>
                </a:lnTo>
                <a:lnTo>
                  <a:pt x="4825" y="10800"/>
                </a:lnTo>
                <a:close/>
              </a:path>
              <a:path fill="darkenLess" w="23576" h="21600">
                <a:moveTo>
                  <a:pt x="14364" y="6448"/>
                </a:moveTo>
                <a:lnTo>
                  <a:pt x="14364" y="4707"/>
                </a:lnTo>
                <a:lnTo>
                  <a:pt x="16140" y="4707"/>
                </a:lnTo>
                <a:lnTo>
                  <a:pt x="16140" y="8224"/>
                </a:lnTo>
                <a:close/>
              </a:path>
              <a:path fill="darkenLess" w="23576" h="21600">
                <a:moveTo>
                  <a:pt x="10865" y="14299"/>
                </a:moveTo>
                <a:lnTo>
                  <a:pt x="12711" y="14299"/>
                </a:lnTo>
                <a:lnTo>
                  <a:pt x="12711" y="17989"/>
                </a:lnTo>
                <a:lnTo>
                  <a:pt x="17097" y="17989"/>
                </a:lnTo>
                <a:lnTo>
                  <a:pt x="17097" y="10800"/>
                </a:lnTo>
                <a:lnTo>
                  <a:pt x="6479" y="10800"/>
                </a:lnTo>
                <a:lnTo>
                  <a:pt x="6479" y="17989"/>
                </a:lnTo>
                <a:lnTo>
                  <a:pt x="10865" y="17989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785880" y="71424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Arial"/>
              </a:rPr>
              <a:t>Информационные ресурсы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  <a:p>
            <a:pPr>
              <a:buClr>
                <a:srgbClr val="00192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2f"/>
                </a:solidFill>
                <a:latin typeface="Arial"/>
              </a:rPr>
              <a:t>www.reg-school.ru/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  <a:p>
            <a:pPr>
              <a:buClr>
                <a:srgbClr val="00192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2f"/>
                </a:solidFill>
                <a:latin typeface="Arial"/>
              </a:rPr>
              <a:t>www.prosv.ru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192f"/>
                </a:solidFill>
                <a:latin typeface="Arial"/>
              </a:rPr>
              <a:t>www.infourok.ru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78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8501040" y="6308640"/>
            <a:ext cx="392040" cy="360360"/>
          </a:xfrm>
          <a:custGeom>
            <a:avLst/>
            <a:gdLst>
              <a:gd name="textAreaLeft" fmla="*/ 23040 w 392040"/>
              <a:gd name="textAreaRight" fmla="*/ 369000 w 3920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497" h="21600">
                <a:moveTo>
                  <a:pt x="0" y="0"/>
                </a:moveTo>
                <a:lnTo>
                  <a:pt x="23497" y="0"/>
                </a:lnTo>
                <a:lnTo>
                  <a:pt x="23497" y="21600"/>
                </a:lnTo>
                <a:lnTo>
                  <a:pt x="0" y="21600"/>
                </a:lnTo>
                <a:close/>
              </a:path>
              <a:path fill="lightenLess" w="23497" h="21600">
                <a:moveTo>
                  <a:pt x="0" y="0"/>
                </a:moveTo>
                <a:lnTo>
                  <a:pt x="23497" y="0"/>
                </a:lnTo>
                <a:lnTo>
                  <a:pt x="22097" y="1400"/>
                </a:lnTo>
                <a:lnTo>
                  <a:pt x="1400" y="1400"/>
                </a:lnTo>
                <a:close/>
              </a:path>
              <a:path fill="darken" w="23497" h="21600">
                <a:moveTo>
                  <a:pt x="23497" y="0"/>
                </a:moveTo>
                <a:lnTo>
                  <a:pt x="23497" y="21600"/>
                </a:lnTo>
                <a:lnTo>
                  <a:pt x="22097" y="20200"/>
                </a:lnTo>
                <a:lnTo>
                  <a:pt x="22097" y="1400"/>
                </a:lnTo>
                <a:close/>
              </a:path>
              <a:path fill="darkenLess" w="23497" h="21600">
                <a:moveTo>
                  <a:pt x="23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97" y="20200"/>
                </a:lnTo>
                <a:close/>
              </a:path>
              <a:path fill="lighten" w="23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97" h="21600">
                <a:moveTo>
                  <a:pt x="11749" y="3837"/>
                </a:moveTo>
                <a:lnTo>
                  <a:pt x="14325" y="6448"/>
                </a:lnTo>
                <a:lnTo>
                  <a:pt x="14325" y="4707"/>
                </a:lnTo>
                <a:lnTo>
                  <a:pt x="16100" y="4707"/>
                </a:lnTo>
                <a:lnTo>
                  <a:pt x="16100" y="8224"/>
                </a:lnTo>
                <a:lnTo>
                  <a:pt x="18711" y="10800"/>
                </a:lnTo>
                <a:lnTo>
                  <a:pt x="17058" y="10800"/>
                </a:lnTo>
                <a:lnTo>
                  <a:pt x="17058" y="17989"/>
                </a:lnTo>
                <a:lnTo>
                  <a:pt x="6439" y="17989"/>
                </a:lnTo>
                <a:lnTo>
                  <a:pt x="6439" y="10800"/>
                </a:lnTo>
                <a:lnTo>
                  <a:pt x="4786" y="10800"/>
                </a:lnTo>
                <a:close/>
              </a:path>
              <a:path fill="darkenLess" w="23497" h="21600">
                <a:moveTo>
                  <a:pt x="14325" y="6448"/>
                </a:moveTo>
                <a:lnTo>
                  <a:pt x="14325" y="4707"/>
                </a:lnTo>
                <a:lnTo>
                  <a:pt x="16100" y="4707"/>
                </a:lnTo>
                <a:lnTo>
                  <a:pt x="16100" y="8224"/>
                </a:lnTo>
                <a:close/>
              </a:path>
              <a:path fill="darkenLess" w="23497" h="21600">
                <a:moveTo>
                  <a:pt x="10826" y="14299"/>
                </a:moveTo>
                <a:lnTo>
                  <a:pt x="12671" y="14299"/>
                </a:lnTo>
                <a:lnTo>
                  <a:pt x="12671" y="17989"/>
                </a:lnTo>
                <a:lnTo>
                  <a:pt x="17058" y="17989"/>
                </a:lnTo>
                <a:lnTo>
                  <a:pt x="17058" y="10800"/>
                </a:lnTo>
                <a:lnTo>
                  <a:pt x="6439" y="10800"/>
                </a:lnTo>
                <a:lnTo>
                  <a:pt x="6439" y="17989"/>
                </a:lnTo>
                <a:lnTo>
                  <a:pt x="10826" y="17989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684360" y="496440"/>
            <a:ext cx="7704000" cy="420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Так как                                                                          , то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Объект 6"/>
              <p:cNvSpPr txBox="1"/>
              <p:nvPr/>
            </p:nvSpPr>
            <p:spPr>
              <a:xfrm>
                <a:off x="2033640" y="396720"/>
                <a:ext cx="36352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Объект 7"/>
              <p:cNvSpPr txBox="1"/>
              <p:nvPr/>
            </p:nvSpPr>
            <p:spPr>
              <a:xfrm>
                <a:off x="684360" y="1413000"/>
                <a:ext cx="7056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Объект 9"/>
              <p:cNvSpPr txBox="1"/>
              <p:nvPr/>
            </p:nvSpPr>
            <p:spPr>
              <a:xfrm>
                <a:off x="752400" y="2492280"/>
                <a:ext cx="72788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Прямоугольник 12"/>
          <p:cNvSpPr/>
          <p:nvPr/>
        </p:nvSpPr>
        <p:spPr>
          <a:xfrm>
            <a:off x="2987640" y="4280040"/>
            <a:ext cx="3240000" cy="201600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Объект 10"/>
              <p:cNvSpPr txBox="1"/>
              <p:nvPr/>
            </p:nvSpPr>
            <p:spPr>
              <a:xfrm>
                <a:off x="4043520" y="5300640"/>
                <a:ext cx="1415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Объект 11"/>
              <p:cNvSpPr txBox="1"/>
              <p:nvPr/>
            </p:nvSpPr>
            <p:spPr>
              <a:xfrm>
                <a:off x="4084560" y="4941720"/>
                <a:ext cx="13352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Объект 13"/>
              <p:cNvSpPr txBox="1"/>
              <p:nvPr/>
            </p:nvSpPr>
            <p:spPr>
              <a:xfrm>
                <a:off x="3757680" y="4329000"/>
                <a:ext cx="1990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1" name="Рисунок 14" descr=""/>
          <p:cNvPicPr/>
          <p:nvPr/>
        </p:nvPicPr>
        <p:blipFill>
          <a:blip r:embed="rId1"/>
          <a:stretch/>
        </p:blipFill>
        <p:spPr>
          <a:xfrm>
            <a:off x="684360" y="4280040"/>
            <a:ext cx="2303280" cy="20160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5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60720" cy="2016000"/>
          </a:xfrm>
          <a:prstGeom prst="rect">
            <a:avLst/>
          </a:prstGeom>
          <a:ln w="0">
            <a:noFill/>
          </a:ln>
        </p:spPr>
      </p:pic>
      <p:sp>
        <p:nvSpPr>
          <p:cNvPr id="393" name="Управляющая кнопка: домой 16">
            <a:hlinkClick r:id="" action="ppaction://hlinkshowjump?jump=firstslide"/>
          </p:cNvPr>
          <p:cNvSpPr/>
          <p:nvPr/>
        </p:nvSpPr>
        <p:spPr>
          <a:xfrm>
            <a:off x="8459640" y="630864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2584" y="3837"/>
                </a:moveTo>
                <a:lnTo>
                  <a:pt x="15160" y="6448"/>
                </a:lnTo>
                <a:lnTo>
                  <a:pt x="15160" y="4707"/>
                </a:lnTo>
                <a:lnTo>
                  <a:pt x="16935" y="4707"/>
                </a:lnTo>
                <a:lnTo>
                  <a:pt x="16935" y="8224"/>
                </a:lnTo>
                <a:lnTo>
                  <a:pt x="19547" y="10800"/>
                </a:lnTo>
                <a:lnTo>
                  <a:pt x="17893" y="10800"/>
                </a:lnTo>
                <a:lnTo>
                  <a:pt x="17893" y="17989"/>
                </a:lnTo>
                <a:lnTo>
                  <a:pt x="7274" y="17989"/>
                </a:lnTo>
                <a:lnTo>
                  <a:pt x="7274" y="10800"/>
                </a:lnTo>
                <a:lnTo>
                  <a:pt x="5621" y="10800"/>
                </a:lnTo>
                <a:close/>
              </a:path>
              <a:path fill="darkenLess" w="25167" h="21600">
                <a:moveTo>
                  <a:pt x="15160" y="6448"/>
                </a:moveTo>
                <a:lnTo>
                  <a:pt x="15160" y="4707"/>
                </a:lnTo>
                <a:lnTo>
                  <a:pt x="16935" y="4707"/>
                </a:lnTo>
                <a:lnTo>
                  <a:pt x="16935" y="8224"/>
                </a:lnTo>
                <a:close/>
              </a:path>
              <a:path fill="darkenLess" w="25167" h="21600">
                <a:moveTo>
                  <a:pt x="11661" y="14299"/>
                </a:moveTo>
                <a:lnTo>
                  <a:pt x="13506" y="14299"/>
                </a:lnTo>
                <a:lnTo>
                  <a:pt x="13506" y="17989"/>
                </a:lnTo>
                <a:lnTo>
                  <a:pt x="17893" y="17989"/>
                </a:lnTo>
                <a:lnTo>
                  <a:pt x="17893" y="10800"/>
                </a:lnTo>
                <a:lnTo>
                  <a:pt x="7274" y="10800"/>
                </a:lnTo>
                <a:lnTo>
                  <a:pt x="7274" y="17989"/>
                </a:lnTo>
                <a:lnTo>
                  <a:pt x="11661" y="17989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Горизонтальный свиток 1"/>
          <p:cNvSpPr/>
          <p:nvPr/>
        </p:nvSpPr>
        <p:spPr>
          <a:xfrm>
            <a:off x="2340000" y="620640"/>
            <a:ext cx="4248000" cy="7700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тная теорема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332000" y="1628640"/>
            <a:ext cx="6119640" cy="75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  <a:ea typeface="Arial"/>
              </a:rPr>
              <a:t>m </a:t>
            </a:r>
            <a:r>
              <a:rPr b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 и 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 таковы, что их сумма равна </a:t>
            </a:r>
            <a:r>
              <a:rPr b="0" i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–в</a:t>
            </a:r>
            <a:r>
              <a:rPr b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, а произведение равно </a:t>
            </a:r>
            <a:r>
              <a:rPr b="0" i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с</a:t>
            </a:r>
            <a:r>
              <a:rPr b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, то эти числа                          являются корнями уравнения </a:t>
            </a:r>
            <a:r>
              <a:rPr b="0" i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х</a:t>
            </a:r>
            <a:r>
              <a:rPr b="0" i="1" lang="en-US" sz="1800" spc="-1" strike="noStrike">
                <a:solidFill>
                  <a:srgbClr val="00192f"/>
                </a:solidFill>
                <a:latin typeface="Arial"/>
                <a:ea typeface="Arial"/>
              </a:rPr>
              <a:t>²</a:t>
            </a:r>
            <a:r>
              <a:rPr b="0" i="1" lang="ru-RU" sz="1800" spc="-1" strike="noStrike">
                <a:solidFill>
                  <a:srgbClr val="00192f"/>
                </a:solidFill>
                <a:latin typeface="Arial"/>
                <a:ea typeface="Arial"/>
              </a:rPr>
              <a:t>+вх+с</a:t>
            </a:r>
            <a:r>
              <a:rPr b="0" i="1" lang="en-US" sz="1800" spc="-1" strike="noStrike">
                <a:solidFill>
                  <a:srgbClr val="00192f"/>
                </a:solidFill>
                <a:latin typeface="Arial"/>
                <a:ea typeface="Arial"/>
              </a:rPr>
              <a:t>=0</a:t>
            </a:r>
            <a:r>
              <a:rPr b="0" lang="ru-RU" sz="1800" spc="-1" strike="noStrike">
                <a:solidFill>
                  <a:srgbClr val="d6ecff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d6ec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d6ec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6" name="Прямоугольник с двумя скругленными противолежащими углами 4"/>
          <p:cNvSpPr/>
          <p:nvPr/>
        </p:nvSpPr>
        <p:spPr>
          <a:xfrm>
            <a:off x="1258920" y="2565360"/>
            <a:ext cx="6192720" cy="3527640"/>
          </a:xfrm>
          <a:custGeom>
            <a:avLst/>
            <a:gdLst/>
            <a:ahLst/>
            <a:rect l="l" t="t" r="r" b="b"/>
            <a:pathLst>
              <a:path w="6192837" h="3527425">
                <a:moveTo>
                  <a:pt x="587916" y="0"/>
                </a:moveTo>
                <a:lnTo>
                  <a:pt x="6192837" y="0"/>
                </a:lnTo>
                <a:lnTo>
                  <a:pt x="6192837" y="0"/>
                </a:lnTo>
                <a:lnTo>
                  <a:pt x="6192837" y="2939509"/>
                </a:lnTo>
                <a:cubicBezTo>
                  <a:pt x="6192837" y="3264206"/>
                  <a:pt x="5929618" y="3527425"/>
                  <a:pt x="5604921" y="3527425"/>
                </a:cubicBezTo>
                <a:lnTo>
                  <a:pt x="0" y="3527425"/>
                </a:lnTo>
                <a:lnTo>
                  <a:pt x="0" y="3527425"/>
                </a:lnTo>
                <a:lnTo>
                  <a:pt x="0" y="587916"/>
                </a:lnTo>
                <a:cubicBezTo>
                  <a:pt x="0" y="263219"/>
                  <a:pt x="263219" y="0"/>
                  <a:pt x="587916" y="0"/>
                </a:cubicBez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1332000" y="2565360"/>
            <a:ext cx="611964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Доказательство: 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о условию 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+ n = -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, 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+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n =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. 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начит, уравнение х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²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+вх+с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=0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можно записать в виде  х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²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-(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+n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)х+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n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=0.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одставив вместо х число 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, получим: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²-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+n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n=m²-m²-mn+mn=0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начит число 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m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является корнем уравнения.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Аналогично можно показать, что число</a:t>
            </a:r>
            <a:r>
              <a:rPr b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n </a:t>
            </a:r>
            <a:r>
              <a:rPr b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также является корнем уравнения. 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ecff"/>
                </a:solidFill>
                <a:latin typeface="Arial"/>
                <a:ea typeface="Arial"/>
              </a:rPr>
              <a:t>                                      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398" name="Рисунок 5" descr=""/>
          <p:cNvPicPr/>
          <p:nvPr/>
        </p:nvPicPr>
        <p:blipFill>
          <a:blip r:embed="rId1"/>
          <a:stretch/>
        </p:blipFill>
        <p:spPr>
          <a:xfrm>
            <a:off x="108000" y="130320"/>
            <a:ext cx="1368360" cy="14983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6" descr=""/>
          <p:cNvPicPr/>
          <p:nvPr/>
        </p:nvPicPr>
        <p:blipFill>
          <a:blip r:embed="rId2"/>
          <a:stretch/>
        </p:blipFill>
        <p:spPr>
          <a:xfrm>
            <a:off x="7547040" y="5013360"/>
            <a:ext cx="1596960" cy="1596960"/>
          </a:xfrm>
          <a:prstGeom prst="rect">
            <a:avLst/>
          </a:prstGeom>
          <a:ln w="0">
            <a:noFill/>
          </a:ln>
        </p:spPr>
      </p:pic>
      <p:sp>
        <p:nvSpPr>
          <p:cNvPr id="400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583480" y="6234120"/>
            <a:ext cx="474840" cy="623880"/>
          </a:xfrm>
          <a:custGeom>
            <a:avLst/>
            <a:gdLst>
              <a:gd name="textAreaLeft" fmla="*/ 30600 w 474840"/>
              <a:gd name="textAreaRight" fmla="*/ 444240 w 474840"/>
              <a:gd name="textAreaTop" fmla="*/ 30600 h 623880"/>
              <a:gd name="textAreaBottom" fmla="*/ 593280 h 623880"/>
            </a:gdLst>
            <a:ahLst/>
            <a:rect l="textAreaLeft" t="textAreaTop" r="textAreaRight" b="textAreaBottom"/>
            <a:pathLst>
              <a:path w="21600" h="28375">
                <a:moveTo>
                  <a:pt x="0" y="0"/>
                </a:moveTo>
                <a:lnTo>
                  <a:pt x="21600" y="0"/>
                </a:lnTo>
                <a:lnTo>
                  <a:pt x="21600" y="28375"/>
                </a:lnTo>
                <a:lnTo>
                  <a:pt x="0" y="28375"/>
                </a:lnTo>
                <a:close/>
              </a:path>
              <a:path fill="lightenLess" w="21600" h="28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375">
                <a:moveTo>
                  <a:pt x="21600" y="0"/>
                </a:moveTo>
                <a:lnTo>
                  <a:pt x="21600" y="28375"/>
                </a:lnTo>
                <a:lnTo>
                  <a:pt x="20200" y="26975"/>
                </a:lnTo>
                <a:lnTo>
                  <a:pt x="20200" y="1400"/>
                </a:lnTo>
                <a:close/>
              </a:path>
              <a:path fill="darkenLess" w="21600" h="28375">
                <a:moveTo>
                  <a:pt x="21600" y="28375"/>
                </a:moveTo>
                <a:lnTo>
                  <a:pt x="0" y="28375"/>
                </a:lnTo>
                <a:lnTo>
                  <a:pt x="1400" y="26975"/>
                </a:lnTo>
                <a:lnTo>
                  <a:pt x="20200" y="26975"/>
                </a:lnTo>
                <a:close/>
              </a:path>
              <a:path fill="lighten" w="21600" h="28375">
                <a:moveTo>
                  <a:pt x="0" y="28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975"/>
                </a:lnTo>
                <a:close/>
              </a:path>
              <a:path fill="darken" w="21600" h="28375">
                <a:moveTo>
                  <a:pt x="10800" y="7224"/>
                </a:moveTo>
                <a:lnTo>
                  <a:pt x="13376" y="9835"/>
                </a:lnTo>
                <a:lnTo>
                  <a:pt x="13376" y="8095"/>
                </a:lnTo>
                <a:lnTo>
                  <a:pt x="15152" y="8095"/>
                </a:lnTo>
                <a:lnTo>
                  <a:pt x="15152" y="11611"/>
                </a:lnTo>
                <a:lnTo>
                  <a:pt x="17763" y="14187"/>
                </a:lnTo>
                <a:lnTo>
                  <a:pt x="16109" y="14187"/>
                </a:lnTo>
                <a:lnTo>
                  <a:pt x="16109" y="21377"/>
                </a:lnTo>
                <a:lnTo>
                  <a:pt x="5491" y="21377"/>
                </a:lnTo>
                <a:lnTo>
                  <a:pt x="5491" y="14187"/>
                </a:lnTo>
                <a:lnTo>
                  <a:pt x="3837" y="14187"/>
                </a:lnTo>
                <a:close/>
              </a:path>
              <a:path fill="darkenLess" w="21600" h="28375">
                <a:moveTo>
                  <a:pt x="13376" y="9835"/>
                </a:moveTo>
                <a:lnTo>
                  <a:pt x="13376" y="8095"/>
                </a:lnTo>
                <a:lnTo>
                  <a:pt x="15152" y="8095"/>
                </a:lnTo>
                <a:lnTo>
                  <a:pt x="15152" y="11611"/>
                </a:lnTo>
                <a:close/>
              </a:path>
              <a:path fill="darkenLess" w="21600" h="28375">
                <a:moveTo>
                  <a:pt x="9877" y="17686"/>
                </a:moveTo>
                <a:lnTo>
                  <a:pt x="11723" y="17686"/>
                </a:lnTo>
                <a:lnTo>
                  <a:pt x="11723" y="21377"/>
                </a:lnTo>
                <a:lnTo>
                  <a:pt x="16109" y="21377"/>
                </a:lnTo>
                <a:lnTo>
                  <a:pt x="16109" y="14187"/>
                </a:lnTo>
                <a:lnTo>
                  <a:pt x="5491" y="14187"/>
                </a:lnTo>
                <a:lnTo>
                  <a:pt x="5491" y="21377"/>
                </a:lnTo>
                <a:lnTo>
                  <a:pt x="9877" y="21377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576360" y="1413000"/>
            <a:ext cx="8064360" cy="155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Для произвольного квадратного уравнения </a:t>
            </a:r>
            <a:r>
              <a:rPr b="0" i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ах</a:t>
            </a:r>
            <a:r>
              <a:rPr b="0" i="1" lang="en-US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²</a:t>
            </a:r>
            <a:r>
              <a:rPr b="0" i="1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+вх+с=0 </a:t>
            </a:r>
            <a:r>
              <a:rPr b="0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, где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его корни, по теореме Виета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02" name="Горизонтальный свиток 2"/>
          <p:cNvSpPr/>
          <p:nvPr/>
        </p:nvSpPr>
        <p:spPr>
          <a:xfrm>
            <a:off x="1800360" y="476280"/>
            <a:ext cx="5400720" cy="10796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заметку !</a:t>
            </a:r>
            <a:endParaRPr b="0" lang="en-US" sz="3200" spc="-1" strike="noStrike">
              <a:solidFill>
                <a:srgbClr val="d6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4"/>
              <p:cNvSpPr txBox="1"/>
              <p:nvPr/>
            </p:nvSpPr>
            <p:spPr>
              <a:xfrm>
                <a:off x="1042920" y="2163600"/>
                <a:ext cx="15145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Объект 5"/>
              <p:cNvSpPr txBox="1"/>
              <p:nvPr/>
            </p:nvSpPr>
            <p:spPr>
              <a:xfrm>
                <a:off x="3451320" y="2274840"/>
                <a:ext cx="1173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Объект 6"/>
              <p:cNvSpPr txBox="1"/>
              <p:nvPr/>
            </p:nvSpPr>
            <p:spPr>
              <a:xfrm>
                <a:off x="7201080" y="1419120"/>
                <a:ext cx="792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06" name="Рисунок 8" descr=""/>
          <p:cNvPicPr/>
          <p:nvPr/>
        </p:nvPicPr>
        <p:blipFill>
          <a:blip r:embed="rId1"/>
          <a:stretch/>
        </p:blipFill>
        <p:spPr>
          <a:xfrm>
            <a:off x="7380360" y="154080"/>
            <a:ext cx="1152360" cy="12589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9" descr=""/>
          <p:cNvPicPr/>
          <p:nvPr/>
        </p:nvPicPr>
        <p:blipFill>
          <a:blip r:embed="rId2"/>
          <a:stretch/>
        </p:blipFill>
        <p:spPr>
          <a:xfrm>
            <a:off x="468360" y="115920"/>
            <a:ext cx="1079280" cy="1297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"/>
          <p:cNvPicPr/>
          <p:nvPr/>
        </p:nvPicPr>
        <p:blipFill>
          <a:blip r:embed="rId3"/>
          <a:stretch/>
        </p:blipFill>
        <p:spPr>
          <a:xfrm>
            <a:off x="611280" y="4367160"/>
            <a:ext cx="7778520" cy="1878120"/>
          </a:xfrm>
          <a:prstGeom prst="rect">
            <a:avLst/>
          </a:prstGeom>
          <a:ln w="0">
            <a:noFill/>
          </a:ln>
        </p:spPr>
      </p:pic>
      <p:sp>
        <p:nvSpPr>
          <p:cNvPr id="409" name="Скругленный прямоугольник 5"/>
          <p:cNvSpPr/>
          <p:nvPr/>
        </p:nvSpPr>
        <p:spPr>
          <a:xfrm>
            <a:off x="3132000" y="3998880"/>
            <a:ext cx="2952720" cy="3682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3132000" y="39830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МЯТКА</a:t>
            </a:r>
            <a:endParaRPr b="0" lang="en-US" sz="20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11" name="Прямоугольник с двумя скругленными противолежащими углами 8"/>
          <p:cNvSpPr/>
          <p:nvPr/>
        </p:nvSpPr>
        <p:spPr>
          <a:xfrm>
            <a:off x="6035760" y="1963800"/>
            <a:ext cx="2162160" cy="907920"/>
          </a:xfrm>
          <a:custGeom>
            <a:avLst/>
            <a:gdLst/>
            <a:ahLst/>
            <a:rect l="l" t="t" r="r" b="b"/>
            <a:pathLst>
              <a:path w="2162175" h="908050">
                <a:moveTo>
                  <a:pt x="454025" y="0"/>
                </a:moveTo>
                <a:lnTo>
                  <a:pt x="2162175" y="0"/>
                </a:lnTo>
                <a:lnTo>
                  <a:pt x="2162175" y="0"/>
                </a:lnTo>
                <a:lnTo>
                  <a:pt x="2162175" y="454025"/>
                </a:lnTo>
                <a:cubicBezTo>
                  <a:pt x="2162175" y="704776"/>
                  <a:pt x="1958901" y="908050"/>
                  <a:pt x="1708150" y="908050"/>
                </a:cubicBezTo>
                <a:lnTo>
                  <a:pt x="0" y="908050"/>
                </a:lnTo>
                <a:lnTo>
                  <a:pt x="0" y="908050"/>
                </a:lnTo>
                <a:lnTo>
                  <a:pt x="0" y="454025"/>
                </a:lnTo>
                <a:cubicBezTo>
                  <a:pt x="0" y="203274"/>
                  <a:pt x="203274" y="0"/>
                  <a:pt x="454025" y="0"/>
                </a:cubicBezTo>
                <a:close/>
              </a:path>
            </a:pathLst>
          </a:custGeom>
          <a:solidFill>
            <a:srgbClr val="ea157a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12" name="TextBox 7"/>
          <p:cNvSpPr/>
          <p:nvPr/>
        </p:nvSpPr>
        <p:spPr>
          <a:xfrm>
            <a:off x="6216480" y="19494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Докажи, используя алгоритм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13" name="Нашивка 10">
            <a:hlinkClick r:id="rId4" action="ppaction://hlinksldjump"/>
          </p:cNvPr>
          <p:cNvSpPr/>
          <p:nvPr/>
        </p:nvSpPr>
        <p:spPr>
          <a:xfrm>
            <a:off x="7734240" y="2201760"/>
            <a:ext cx="362160" cy="432000"/>
          </a:xfrm>
          <a:custGeom>
            <a:avLst/>
            <a:gdLst>
              <a:gd name="textAreaLeft" fmla="*/ 0 w 362160"/>
              <a:gd name="textAreaRight" fmla="*/ 362160 w 3621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14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8640720" y="6245280"/>
            <a:ext cx="395280" cy="4968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96800"/>
              <a:gd name="textAreaBottom" fmla="*/ 471240 h 496800"/>
            </a:gdLst>
            <a:ahLst/>
            <a:rect l="textAreaLeft" t="textAreaTop" r="textAreaRight" b="textAreaBottom"/>
            <a:pathLst>
              <a:path w="21600" h="27142">
                <a:moveTo>
                  <a:pt x="0" y="0"/>
                </a:moveTo>
                <a:lnTo>
                  <a:pt x="21600" y="0"/>
                </a:lnTo>
                <a:lnTo>
                  <a:pt x="21600" y="27142"/>
                </a:lnTo>
                <a:lnTo>
                  <a:pt x="0" y="27142"/>
                </a:lnTo>
                <a:close/>
              </a:path>
              <a:path fill="lightenLess" w="21600" h="271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42">
                <a:moveTo>
                  <a:pt x="21600" y="0"/>
                </a:moveTo>
                <a:lnTo>
                  <a:pt x="21600" y="27142"/>
                </a:lnTo>
                <a:lnTo>
                  <a:pt x="20200" y="25742"/>
                </a:lnTo>
                <a:lnTo>
                  <a:pt x="20200" y="1400"/>
                </a:lnTo>
                <a:close/>
              </a:path>
              <a:path fill="darkenLess" w="21600" h="27142">
                <a:moveTo>
                  <a:pt x="21600" y="27142"/>
                </a:moveTo>
                <a:lnTo>
                  <a:pt x="0" y="27142"/>
                </a:lnTo>
                <a:lnTo>
                  <a:pt x="1400" y="25742"/>
                </a:lnTo>
                <a:lnTo>
                  <a:pt x="20200" y="25742"/>
                </a:lnTo>
                <a:close/>
              </a:path>
              <a:path fill="lighten" w="21600" h="27142">
                <a:moveTo>
                  <a:pt x="0" y="271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42"/>
                </a:lnTo>
                <a:close/>
              </a:path>
              <a:path fill="darken" w="21600" h="27142">
                <a:moveTo>
                  <a:pt x="10800" y="6608"/>
                </a:moveTo>
                <a:lnTo>
                  <a:pt x="13376" y="9219"/>
                </a:lnTo>
                <a:lnTo>
                  <a:pt x="13376" y="7479"/>
                </a:lnTo>
                <a:lnTo>
                  <a:pt x="15152" y="7479"/>
                </a:lnTo>
                <a:lnTo>
                  <a:pt x="15152" y="10995"/>
                </a:lnTo>
                <a:lnTo>
                  <a:pt x="17763" y="13571"/>
                </a:lnTo>
                <a:lnTo>
                  <a:pt x="16109" y="13571"/>
                </a:lnTo>
                <a:lnTo>
                  <a:pt x="16109" y="20761"/>
                </a:lnTo>
                <a:lnTo>
                  <a:pt x="5491" y="20761"/>
                </a:lnTo>
                <a:lnTo>
                  <a:pt x="5491" y="13571"/>
                </a:lnTo>
                <a:lnTo>
                  <a:pt x="3837" y="13571"/>
                </a:lnTo>
                <a:close/>
              </a:path>
              <a:path fill="darkenLess" w="21600" h="27142">
                <a:moveTo>
                  <a:pt x="13376" y="9219"/>
                </a:moveTo>
                <a:lnTo>
                  <a:pt x="13376" y="7479"/>
                </a:lnTo>
                <a:lnTo>
                  <a:pt x="15152" y="7479"/>
                </a:lnTo>
                <a:lnTo>
                  <a:pt x="15152" y="10995"/>
                </a:lnTo>
                <a:close/>
              </a:path>
              <a:path fill="darkenLess" w="21600" h="27142">
                <a:moveTo>
                  <a:pt x="9877" y="17070"/>
                </a:moveTo>
                <a:lnTo>
                  <a:pt x="11723" y="17070"/>
                </a:lnTo>
                <a:lnTo>
                  <a:pt x="11723" y="20761"/>
                </a:lnTo>
                <a:lnTo>
                  <a:pt x="16109" y="20761"/>
                </a:lnTo>
                <a:lnTo>
                  <a:pt x="16109" y="13571"/>
                </a:lnTo>
                <a:lnTo>
                  <a:pt x="5491" y="13571"/>
                </a:lnTo>
                <a:lnTo>
                  <a:pt x="5491" y="20761"/>
                </a:lnTo>
                <a:lnTo>
                  <a:pt x="9877" y="20761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539640" y="750960"/>
            <a:ext cx="820908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Доказательство для квадратного уравнения в общем виде: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1 шаг: запишите квадратное уравнение  в общем виде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2 шаг: запишите его в виде приведенного квадратного уравнения (хорошенько поду-майте, как это можно сделать!)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3 шаг: найдите корни этого уравнения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4 шаг: найдите сумму корней, преобразуйте получившееся выражение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5 шаг: найдите произведение корней, преобразуйте получившееся выражение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6 шаг: сравните получившиеся результаты с коэффициентами уравнения.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7 шаг: сделайте вывод.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3143160" y="4005360"/>
            <a:ext cx="2292480" cy="2592360"/>
          </a:xfrm>
          <a:prstGeom prst="rect">
            <a:avLst/>
          </a:prstGeom>
          <a:ln w="0">
            <a:noFill/>
          </a:ln>
        </p:spPr>
      </p:pic>
      <p:sp>
        <p:nvSpPr>
          <p:cNvPr id="417" name="Овал 7"/>
          <p:cNvSpPr/>
          <p:nvPr/>
        </p:nvSpPr>
        <p:spPr>
          <a:xfrm>
            <a:off x="3887640" y="5207040"/>
            <a:ext cx="863640" cy="720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18" name="TextBox 3">
            <a:hlinkClick r:id="rId2" action="ppaction://hlinksldjump"/>
          </p:cNvPr>
          <p:cNvSpPr/>
          <p:nvPr/>
        </p:nvSpPr>
        <p:spPr>
          <a:xfrm>
            <a:off x="3780000" y="52434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десь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твет!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19" name="Рисунок 4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1584360" cy="17337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1584360" cy="1733760"/>
          </a:xfrm>
          <a:prstGeom prst="rect">
            <a:avLst/>
          </a:prstGeom>
          <a:ln w="0">
            <a:noFill/>
          </a:ln>
        </p:spPr>
      </p:pic>
      <p:sp>
        <p:nvSpPr>
          <p:cNvPr id="421" name="Управляющая кнопка: в начало 8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8047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16202" y="3794"/>
                </a:lnTo>
                <a:lnTo>
                  <a:pt x="16202" y="17806"/>
                </a:lnTo>
                <a:lnTo>
                  <a:pt x="14540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900000" y="876240"/>
            <a:ext cx="7434360" cy="3506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900000" y="4383000"/>
            <a:ext cx="7434360" cy="13716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" descr=""/>
          <p:cNvPicPr/>
          <p:nvPr/>
        </p:nvPicPr>
        <p:blipFill>
          <a:blip r:embed="rId3"/>
          <a:stretch/>
        </p:blipFill>
        <p:spPr>
          <a:xfrm>
            <a:off x="6659640" y="4251240"/>
            <a:ext cx="1533600" cy="1428840"/>
          </a:xfrm>
          <a:prstGeom prst="rect">
            <a:avLst/>
          </a:prstGeom>
          <a:ln w="0">
            <a:noFill/>
          </a:ln>
        </p:spPr>
      </p:pic>
      <p:sp>
        <p:nvSpPr>
          <p:cNvPr id="425" name="Управляющая кнопка: в начало 2">
            <a:hlinkClick r:id="rId4" action="ppaction://hlinksldjump"/>
          </p:cNvPr>
          <p:cNvSpPr/>
          <p:nvPr/>
        </p:nvSpPr>
        <p:spPr>
          <a:xfrm>
            <a:off x="8334360" y="6381720"/>
            <a:ext cx="485640" cy="287280"/>
          </a:xfrm>
          <a:custGeom>
            <a:avLst/>
            <a:gdLst>
              <a:gd name="textAreaLeft" fmla="*/ 18360 w 485640"/>
              <a:gd name="textAreaRight" fmla="*/ 467280 w 485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6496" h="21600">
                <a:moveTo>
                  <a:pt x="0" y="0"/>
                </a:moveTo>
                <a:lnTo>
                  <a:pt x="36496" y="0"/>
                </a:lnTo>
                <a:lnTo>
                  <a:pt x="36496" y="21600"/>
                </a:lnTo>
                <a:lnTo>
                  <a:pt x="0" y="21600"/>
                </a:lnTo>
                <a:close/>
              </a:path>
              <a:path fill="lightenLess" w="36496" h="21600">
                <a:moveTo>
                  <a:pt x="0" y="0"/>
                </a:moveTo>
                <a:lnTo>
                  <a:pt x="36496" y="0"/>
                </a:lnTo>
                <a:lnTo>
                  <a:pt x="35096" y="1400"/>
                </a:lnTo>
                <a:lnTo>
                  <a:pt x="1400" y="1400"/>
                </a:lnTo>
                <a:close/>
              </a:path>
              <a:path fill="darken" w="36496" h="21600">
                <a:moveTo>
                  <a:pt x="36496" y="0"/>
                </a:moveTo>
                <a:lnTo>
                  <a:pt x="36496" y="21600"/>
                </a:lnTo>
                <a:lnTo>
                  <a:pt x="35096" y="20200"/>
                </a:lnTo>
                <a:lnTo>
                  <a:pt x="35096" y="1400"/>
                </a:lnTo>
                <a:close/>
              </a:path>
              <a:path fill="darkenLess" w="36496" h="21600">
                <a:moveTo>
                  <a:pt x="36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96" y="20200"/>
                </a:lnTo>
                <a:close/>
              </a:path>
              <a:path fill="lighten" w="36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96" h="21600">
                <a:moveTo>
                  <a:pt x="14749" y="10800"/>
                </a:moveTo>
                <a:lnTo>
                  <a:pt x="25254" y="3794"/>
                </a:lnTo>
                <a:lnTo>
                  <a:pt x="25254" y="17806"/>
                </a:lnTo>
                <a:close/>
              </a:path>
              <a:path fill="darken" w="36496" h="21600">
                <a:moveTo>
                  <a:pt x="11241" y="3794"/>
                </a:moveTo>
                <a:lnTo>
                  <a:pt x="12904" y="3794"/>
                </a:lnTo>
                <a:lnTo>
                  <a:pt x="12904" y="17806"/>
                </a:lnTo>
                <a:lnTo>
                  <a:pt x="11241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с двумя скругленными противолежащими углами 2"/>
          <p:cNvSpPr/>
          <p:nvPr/>
        </p:nvSpPr>
        <p:spPr>
          <a:xfrm>
            <a:off x="1619280" y="476280"/>
            <a:ext cx="6408720" cy="1512720"/>
          </a:xfrm>
          <a:custGeom>
            <a:avLst/>
            <a:gdLst/>
            <a:ahLst/>
            <a:rect l="l" t="t" r="r" b="b"/>
            <a:pathLst>
              <a:path w="6408738" h="1512888">
                <a:moveTo>
                  <a:pt x="252153" y="0"/>
                </a:moveTo>
                <a:lnTo>
                  <a:pt x="6408738" y="0"/>
                </a:lnTo>
                <a:lnTo>
                  <a:pt x="6408738" y="0"/>
                </a:lnTo>
                <a:lnTo>
                  <a:pt x="6408738" y="1260735"/>
                </a:lnTo>
                <a:cubicBezTo>
                  <a:pt x="6408738" y="1399995"/>
                  <a:pt x="6295845" y="1512888"/>
                  <a:pt x="6156585" y="1512888"/>
                </a:cubicBezTo>
                <a:lnTo>
                  <a:pt x="0" y="1512888"/>
                </a:lnTo>
                <a:lnTo>
                  <a:pt x="0" y="1512888"/>
                </a:lnTo>
                <a:lnTo>
                  <a:pt x="0" y="252153"/>
                </a:lnTo>
                <a:cubicBezTo>
                  <a:pt x="0" y="112893"/>
                  <a:pt x="112893" y="0"/>
                  <a:pt x="252153" y="0"/>
                </a:cubicBez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27" name="Рисунок 5" descr=""/>
          <p:cNvPicPr/>
          <p:nvPr/>
        </p:nvPicPr>
        <p:blipFill>
          <a:blip r:embed="rId1"/>
          <a:stretch/>
        </p:blipFill>
        <p:spPr>
          <a:xfrm>
            <a:off x="755640" y="61920"/>
            <a:ext cx="7632720" cy="50878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1"/>
          <p:cNvSpPr/>
          <p:nvPr/>
        </p:nvSpPr>
        <p:spPr>
          <a:xfrm>
            <a:off x="2050920" y="981000"/>
            <a:ext cx="512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 теореме Виета можно: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рять правильно ли найдены  корни уравнения,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ходить  подбором корни уравнения,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данных чисел, являющихся корнями, записать вид соответствующего приведенного квадратного уравнения</a:t>
            </a: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d6ecff"/>
                </a:solidFill>
                <a:latin typeface="Arial"/>
              </a:rPr>
              <a:t>                                              </a:t>
            </a:r>
            <a:endParaRPr b="0" lang="en-US" sz="1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29" name="TextBox 3"/>
          <p:cNvSpPr/>
          <p:nvPr/>
        </p:nvSpPr>
        <p:spPr>
          <a:xfrm>
            <a:off x="900000" y="2421000"/>
            <a:ext cx="180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30" name="Рисунок 6" descr=""/>
          <p:cNvPicPr/>
          <p:nvPr/>
        </p:nvPicPr>
        <p:blipFill>
          <a:blip r:embed="rId2"/>
          <a:srcRect l="4031" t="6698" r="3732" b="18643"/>
          <a:stretch/>
        </p:blipFill>
        <p:spPr>
          <a:xfrm>
            <a:off x="539640" y="5300640"/>
            <a:ext cx="1667160" cy="13320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"/>
          <p:cNvPicPr/>
          <p:nvPr/>
        </p:nvPicPr>
        <p:blipFill>
          <a:blip r:embed="rId3"/>
          <a:srcRect l="4031" t="6698" r="3732" b="18643"/>
          <a:stretch/>
        </p:blipFill>
        <p:spPr>
          <a:xfrm>
            <a:off x="3738600" y="5311800"/>
            <a:ext cx="1665360" cy="13320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8" descr=""/>
          <p:cNvPicPr/>
          <p:nvPr/>
        </p:nvPicPr>
        <p:blipFill>
          <a:blip r:embed="rId4"/>
          <a:srcRect l="4031" t="6698" r="3732" b="18643"/>
          <a:stretch/>
        </p:blipFill>
        <p:spPr>
          <a:xfrm>
            <a:off x="6721560" y="5300640"/>
            <a:ext cx="1666800" cy="1332000"/>
          </a:xfrm>
          <a:prstGeom prst="rect">
            <a:avLst/>
          </a:prstGeom>
          <a:ln w="0">
            <a:noFill/>
          </a:ln>
        </p:spPr>
      </p:pic>
      <p:sp>
        <p:nvSpPr>
          <p:cNvPr id="433" name="Овальная выноска 13">
            <a:hlinkClick r:id="rId5" action="ppaction://hlinksldjump"/>
          </p:cNvPr>
          <p:cNvSpPr/>
          <p:nvPr/>
        </p:nvSpPr>
        <p:spPr>
          <a:xfrm>
            <a:off x="654120" y="4030560"/>
            <a:ext cx="2292120" cy="1152720"/>
          </a:xfrm>
          <a:prstGeom prst="wedgeEllipseCallout">
            <a:avLst>
              <a:gd name="adj1" fmla="val -25449"/>
              <a:gd name="adj2" fmla="val 81453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имер 1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34" name="Овальная выноска 14">
            <a:hlinkClick r:id="rId6" action="ppaction://hlinksldjump"/>
          </p:cNvPr>
          <p:cNvSpPr/>
          <p:nvPr/>
        </p:nvSpPr>
        <p:spPr>
          <a:xfrm>
            <a:off x="3846600" y="3997440"/>
            <a:ext cx="2292120" cy="1152360"/>
          </a:xfrm>
          <a:prstGeom prst="wedgeEllipseCallout">
            <a:avLst>
              <a:gd name="adj1" fmla="val -25449"/>
              <a:gd name="adj2" fmla="val 81453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Corbel"/>
              </a:rPr>
              <a:t>Пример 2 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35" name="Овальная выноска 15">
            <a:hlinkClick r:id="rId7" action="ppaction://hlinksldjump"/>
          </p:cNvPr>
          <p:cNvSpPr/>
          <p:nvPr/>
        </p:nvSpPr>
        <p:spPr>
          <a:xfrm>
            <a:off x="6637320" y="3997440"/>
            <a:ext cx="2290680" cy="1152360"/>
          </a:xfrm>
          <a:prstGeom prst="wedgeEllipseCallout">
            <a:avLst>
              <a:gd name="adj1" fmla="val -25449"/>
              <a:gd name="adj2" fmla="val 81453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2f"/>
                </a:solidFill>
                <a:latin typeface="Corbel"/>
              </a:rPr>
              <a:t>Пример 3</a:t>
            </a: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3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8675640" y="63086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10800" y="6025"/>
                </a:moveTo>
                <a:lnTo>
                  <a:pt x="13376" y="8636"/>
                </a:ln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lnTo>
                  <a:pt x="17763" y="12988"/>
                </a:lnTo>
                <a:lnTo>
                  <a:pt x="16109" y="12988"/>
                </a:lnTo>
                <a:lnTo>
                  <a:pt x="16109" y="20177"/>
                </a:lnTo>
                <a:lnTo>
                  <a:pt x="5491" y="20177"/>
                </a:lnTo>
                <a:lnTo>
                  <a:pt x="5491" y="12988"/>
                </a:lnTo>
                <a:lnTo>
                  <a:pt x="3837" y="12988"/>
                </a:lnTo>
                <a:close/>
              </a:path>
              <a:path fill="darkenLess" w="21600" h="25976">
                <a:moveTo>
                  <a:pt x="13376" y="8636"/>
                </a:move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close/>
              </a:path>
              <a:path fill="darkenLess" w="21600" h="25976">
                <a:moveTo>
                  <a:pt x="9877" y="16487"/>
                </a:moveTo>
                <a:lnTo>
                  <a:pt x="11723" y="16487"/>
                </a:lnTo>
                <a:lnTo>
                  <a:pt x="11723" y="20177"/>
                </a:lnTo>
                <a:lnTo>
                  <a:pt x="16109" y="20177"/>
                </a:lnTo>
                <a:lnTo>
                  <a:pt x="16109" y="12988"/>
                </a:lnTo>
                <a:lnTo>
                  <a:pt x="5491" y="12988"/>
                </a:lnTo>
                <a:lnTo>
                  <a:pt x="5491" y="20177"/>
                </a:lnTo>
                <a:lnTo>
                  <a:pt x="9877" y="20177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1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2"/>
          <p:cNvSpPr/>
          <p:nvPr/>
        </p:nvSpPr>
        <p:spPr>
          <a:xfrm>
            <a:off x="3032280" y="189000"/>
            <a:ext cx="5564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имер 1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39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8388360" y="6524640"/>
            <a:ext cx="576360" cy="217440"/>
          </a:xfrm>
          <a:custGeom>
            <a:avLst/>
            <a:gdLst>
              <a:gd name="textAreaLeft" fmla="*/ 14040 w 576360"/>
              <a:gd name="textAreaRight" fmla="*/ 562320 w 576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57195" h="21600">
                <a:moveTo>
                  <a:pt x="0" y="0"/>
                </a:moveTo>
                <a:lnTo>
                  <a:pt x="57195" y="0"/>
                </a:lnTo>
                <a:lnTo>
                  <a:pt x="57195" y="21600"/>
                </a:lnTo>
                <a:lnTo>
                  <a:pt x="0" y="21600"/>
                </a:lnTo>
                <a:close/>
              </a:path>
              <a:path fill="lightenLess" w="57195" h="21600">
                <a:moveTo>
                  <a:pt x="0" y="0"/>
                </a:moveTo>
                <a:lnTo>
                  <a:pt x="57195" y="0"/>
                </a:lnTo>
                <a:lnTo>
                  <a:pt x="55795" y="1400"/>
                </a:lnTo>
                <a:lnTo>
                  <a:pt x="1400" y="1400"/>
                </a:lnTo>
                <a:close/>
              </a:path>
              <a:path fill="darken" w="57195" h="21600">
                <a:moveTo>
                  <a:pt x="57195" y="0"/>
                </a:moveTo>
                <a:lnTo>
                  <a:pt x="57195" y="21600"/>
                </a:lnTo>
                <a:lnTo>
                  <a:pt x="55795" y="20200"/>
                </a:lnTo>
                <a:lnTo>
                  <a:pt x="55795" y="1400"/>
                </a:lnTo>
                <a:close/>
              </a:path>
              <a:path fill="darkenLess" w="57195" h="21600">
                <a:moveTo>
                  <a:pt x="57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95" y="20200"/>
                </a:lnTo>
                <a:close/>
              </a:path>
              <a:path fill="lighten" w="57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95" h="21600">
                <a:moveTo>
                  <a:pt x="25099" y="10800"/>
                </a:moveTo>
                <a:lnTo>
                  <a:pt x="35604" y="3794"/>
                </a:lnTo>
                <a:lnTo>
                  <a:pt x="35604" y="17806"/>
                </a:lnTo>
                <a:close/>
              </a:path>
              <a:path fill="darken" w="57195" h="21600">
                <a:moveTo>
                  <a:pt x="21591" y="3794"/>
                </a:moveTo>
                <a:lnTo>
                  <a:pt x="23254" y="3794"/>
                </a:lnTo>
                <a:lnTo>
                  <a:pt x="23254" y="17806"/>
                </a:lnTo>
                <a:lnTo>
                  <a:pt x="21591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3"/>
          <a:stretch/>
        </p:blipFill>
        <p:spPr>
          <a:xfrm>
            <a:off x="3013200" y="988920"/>
            <a:ext cx="5662440" cy="11127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4"/>
          <p:cNvSpPr/>
          <p:nvPr/>
        </p:nvSpPr>
        <p:spPr>
          <a:xfrm>
            <a:off x="3022560" y="2101680"/>
            <a:ext cx="5643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Решение:</a:t>
            </a:r>
            <a:endParaRPr b="0" lang="en-US" sz="16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а) 2+3=5=-</a:t>
            </a: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b   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 2*3=6=c  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     корни найдены верно</a:t>
            </a:r>
            <a:endParaRPr b="0" lang="en-US" sz="1600" spc="-1" strike="noStrike">
              <a:solidFill>
                <a:srgbClr val="d6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) -6+4=-2=-</a:t>
            </a: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b    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-6</a:t>
            </a: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*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=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-24</a:t>
            </a:r>
            <a:r>
              <a:rPr b="1" lang="en-US" sz="1600" spc="-1" strike="noStrike">
                <a:solidFill>
                  <a:srgbClr val="00192f"/>
                </a:solidFill>
                <a:latin typeface="Arial"/>
              </a:rPr>
              <a:t>=c  </a:t>
            </a:r>
            <a:r>
              <a:rPr b="1" lang="ru-RU" sz="1600" spc="-1" strike="noStrike">
                <a:solidFill>
                  <a:srgbClr val="00192f"/>
                </a:solidFill>
                <a:latin typeface="Arial"/>
              </a:rPr>
              <a:t>корни найдены верно</a:t>
            </a:r>
            <a:endParaRPr b="0" lang="en-US" sz="1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42" name="Горизонтальный свиток 7"/>
          <p:cNvSpPr/>
          <p:nvPr/>
        </p:nvSpPr>
        <p:spPr>
          <a:xfrm>
            <a:off x="1405080" y="2997360"/>
            <a:ext cx="6199200" cy="10731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шите уравнения и выполните проверку с помощью теоремы Виет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43" name="Овал 8"/>
          <p:cNvSpPr/>
          <p:nvPr/>
        </p:nvSpPr>
        <p:spPr>
          <a:xfrm>
            <a:off x="3132000" y="6093000"/>
            <a:ext cx="3384720" cy="504720"/>
          </a:xfrm>
          <a:prstGeom prst="ellipse">
            <a:avLst/>
          </a:prstGeom>
          <a:solidFill>
            <a:srgbClr val="ea157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тветы</a:t>
            </a:r>
            <a:endParaRPr b="0" lang="en-US" sz="32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4"/>
          <a:srcRect l="28991" t="35610" r="59294" b="44277"/>
          <a:stretch/>
        </p:blipFill>
        <p:spPr>
          <a:xfrm>
            <a:off x="3576600" y="3933720"/>
            <a:ext cx="2236680" cy="2159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"/>
          <p:cNvPicPr/>
          <p:nvPr/>
        </p:nvPicPr>
        <p:blipFill>
          <a:blip r:embed="rId5"/>
          <a:srcRect l="46447" t="30143" r="10865" b="47790"/>
          <a:stretch/>
        </p:blipFill>
        <p:spPr>
          <a:xfrm>
            <a:off x="957240" y="3960720"/>
            <a:ext cx="7431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b8ff"/>
            </a:gs>
            <a:gs pos="100000">
              <a:srgbClr val="5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2"/>
          <p:cNvSpPr/>
          <p:nvPr/>
        </p:nvSpPr>
        <p:spPr>
          <a:xfrm>
            <a:off x="3032280" y="4070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447" name="Рисунок 4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2303280" cy="2808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6" descr=""/>
          <p:cNvPicPr/>
          <p:nvPr/>
        </p:nvPicPr>
        <p:blipFill>
          <a:blip r:embed="rId2"/>
          <a:stretch/>
        </p:blipFill>
        <p:spPr>
          <a:xfrm>
            <a:off x="1405080" y="3933720"/>
            <a:ext cx="6199200" cy="1871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7" descr=""/>
          <p:cNvPicPr/>
          <p:nvPr/>
        </p:nvPicPr>
        <p:blipFill>
          <a:blip r:embed="rId3"/>
          <a:stretch/>
        </p:blipFill>
        <p:spPr>
          <a:xfrm>
            <a:off x="3032280" y="801720"/>
            <a:ext cx="5564160" cy="21956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3032280" y="189000"/>
            <a:ext cx="5564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имер 2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51" name="Горизонтальный свиток 7"/>
          <p:cNvSpPr/>
          <p:nvPr/>
        </p:nvSpPr>
        <p:spPr>
          <a:xfrm>
            <a:off x="1405080" y="2997360"/>
            <a:ext cx="6199200" cy="10731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: Найдите подбором  корни уравнения, если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&gt;0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endParaRPr b="0" lang="en-US" sz="28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52" name="Овал 8"/>
          <p:cNvSpPr/>
          <p:nvPr/>
        </p:nvSpPr>
        <p:spPr>
          <a:xfrm>
            <a:off x="3132000" y="6093000"/>
            <a:ext cx="3384720" cy="504720"/>
          </a:xfrm>
          <a:prstGeom prst="ellipse">
            <a:avLst/>
          </a:prstGeom>
          <a:solidFill>
            <a:srgbClr val="ea157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тветы</a:t>
            </a:r>
            <a:endParaRPr b="0" lang="en-US" sz="3200" spc="-1" strike="noStrike">
              <a:solidFill>
                <a:srgbClr val="d6ec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276720" y="4299120"/>
          <a:ext cx="4327560" cy="1508040"/>
        </p:xfrm>
        <a:graphic>
          <a:graphicData uri="http://schemas.openxmlformats.org/drawingml/2006/table">
            <a:tbl>
              <a:tblPr/>
              <a:tblGrid>
                <a:gridCol w="1199880"/>
                <a:gridCol w="1076400"/>
                <a:gridCol w="1025640"/>
                <a:gridCol w="1025640"/>
              </a:tblGrid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1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6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800" spc="-1" strike="noStrike">
                        <a:solidFill>
                          <a:srgbClr val="d6ec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Управляющая кнопка: в начало 11"/>
          <p:cNvSpPr/>
          <p:nvPr/>
        </p:nvSpPr>
        <p:spPr>
          <a:xfrm>
            <a:off x="8172360" y="6345360"/>
            <a:ext cx="576360" cy="252360"/>
          </a:xfrm>
          <a:custGeom>
            <a:avLst/>
            <a:gdLst>
              <a:gd name="textAreaLeft" fmla="*/ 16200 w 576360"/>
              <a:gd name="textAreaRight" fmla="*/ 560160 w 576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49292" h="21600">
                <a:moveTo>
                  <a:pt x="0" y="0"/>
                </a:moveTo>
                <a:lnTo>
                  <a:pt x="49292" y="0"/>
                </a:lnTo>
                <a:lnTo>
                  <a:pt x="49292" y="21600"/>
                </a:lnTo>
                <a:lnTo>
                  <a:pt x="0" y="21600"/>
                </a:lnTo>
                <a:close/>
              </a:path>
              <a:path fill="lightenLess" w="49292" h="21600">
                <a:moveTo>
                  <a:pt x="0" y="0"/>
                </a:moveTo>
                <a:lnTo>
                  <a:pt x="49292" y="0"/>
                </a:lnTo>
                <a:lnTo>
                  <a:pt x="47892" y="1400"/>
                </a:lnTo>
                <a:lnTo>
                  <a:pt x="1400" y="1400"/>
                </a:lnTo>
                <a:close/>
              </a:path>
              <a:path fill="darken" w="49292" h="21600">
                <a:moveTo>
                  <a:pt x="49292" y="0"/>
                </a:moveTo>
                <a:lnTo>
                  <a:pt x="49292" y="21600"/>
                </a:lnTo>
                <a:lnTo>
                  <a:pt x="47892" y="20200"/>
                </a:lnTo>
                <a:lnTo>
                  <a:pt x="47892" y="1400"/>
                </a:lnTo>
                <a:close/>
              </a:path>
              <a:path fill="darkenLess" w="49292" h="21600">
                <a:moveTo>
                  <a:pt x="4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92" y="20200"/>
                </a:lnTo>
                <a:close/>
              </a:path>
              <a:path fill="lighten" w="4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92" h="21600">
                <a:moveTo>
                  <a:pt x="21147" y="10800"/>
                </a:moveTo>
                <a:lnTo>
                  <a:pt x="31653" y="3794"/>
                </a:lnTo>
                <a:lnTo>
                  <a:pt x="31653" y="17806"/>
                </a:lnTo>
                <a:close/>
              </a:path>
              <a:path fill="darken" w="49292" h="21600">
                <a:moveTo>
                  <a:pt x="17640" y="3794"/>
                </a:moveTo>
                <a:lnTo>
                  <a:pt x="19302" y="3794"/>
                </a:lnTo>
                <a:lnTo>
                  <a:pt x="19302" y="17806"/>
                </a:lnTo>
                <a:lnTo>
                  <a:pt x="17640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27:35Z</dcterms:created>
  <dc:creator>Admin</dc:creator>
  <dc:description/>
  <dc:language>en-US</dc:language>
  <cp:lastModifiedBy>Customer</cp:lastModifiedBy>
  <dcterms:modified xsi:type="dcterms:W3CDTF">2015-04-20T14:03:02Z</dcterms:modified>
  <cp:revision>75</cp:revision>
  <dc:subject/>
  <dc:title>Слайд 1</dc:title>
</cp:coreProperties>
</file>